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move the slide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9A14-B678-4643-9AD0-2289832C4EE1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5DA0-C404-4130-8D4D-C57DF604231C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16FD-5B66-4F6E-9A54-14F53118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49CE-BF8F-45DB-A760-CC57209D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5F1-0EE5-44F7-9696-DA9CBCFD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3037-C43E-48CF-A5C0-2255BE27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1B84-C81C-45DB-A89C-8F272CB1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95CF-7CB3-4E3C-B345-1B7940B7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9707-FD6F-43EA-BB17-29FDC999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2A60-CCF7-45B9-97E7-F3886644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0BAF-D36D-4B44-9746-6E032FEF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D2D-937F-4C1A-BC90-92A2996A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28D1-740F-4E1E-B13E-8228AE4C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8E29-105C-4838-8BED-EC8FA152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AFAE-002B-4557-ADF2-6BF9D0E93AD2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Start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9" descr="Start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42600" y="400032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ffff"/>
                </a:solidFill>
                <a:latin typeface="Gill Sans MT"/>
              </a:rPr>
              <a:t>Session 2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20" name="Title 1"/>
          <p:cNvSpPr/>
          <p:nvPr/>
        </p:nvSpPr>
        <p:spPr>
          <a:xfrm>
            <a:off x="642960" y="5000760"/>
            <a:ext cx="57150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Gill Sans MT"/>
              </a:rPr>
              <a:t>Mats Pettersson, Sr FAE IAR Systems 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49" name="Title 1"/>
          <p:cNvSpPr/>
          <p:nvPr/>
        </p:nvSpPr>
        <p:spPr>
          <a:xfrm>
            <a:off x="642960" y="333360"/>
            <a:ext cx="695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odifying the stdio communication chan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"/>
          <p:cNvSpPr/>
          <p:nvPr/>
        </p:nvSpPr>
        <p:spPr>
          <a:xfrm>
            <a:off x="636480" y="1803240"/>
            <a:ext cx="782316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QX applications two configuration files needs to be modif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_config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rk60n512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r_config.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BSPCFG_ENABLE_IODEBUG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wrk60n512.h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BSP_DEFAULT_IO_CHANNEL   "iodebug:“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BSP_DEFAULT_IO_CHANNEL_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2" name="Title 1"/>
          <p:cNvSpPr/>
          <p:nvPr/>
        </p:nvSpPr>
        <p:spPr>
          <a:xfrm>
            <a:off x="642960" y="476280"/>
            <a:ext cx="585792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Building MQX libr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642960" y="1865160"/>
            <a:ext cx="7715160" cy="51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Manually build each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Using ”Batch build” to build a set of predefined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All EWARM MQX library projects have a set of predefined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batch bui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All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, that will build all MQX libraries for debug and release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Debug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, that will build all MQX debug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Release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, that will build all MQX release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5" name="Title 1"/>
          <p:cNvSpPr/>
          <p:nvPr/>
        </p:nvSpPr>
        <p:spPr>
          <a:xfrm>
            <a:off x="468360" y="260280"/>
            <a:ext cx="58579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Building MQX libr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468360" y="1700280"/>
            <a:ext cx="8032680" cy="11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e generated library and header files are copied to “</a:t>
            </a:r>
            <a:r>
              <a:rPr b="1" lang="sv-SE" sz="2400" spc="-1" strike="noStrike">
                <a:solidFill>
                  <a:srgbClr val="808080"/>
                </a:solidFill>
                <a:latin typeface="Gill Sans MT"/>
              </a:rPr>
              <a:t>lib\&lt;board&gt;.iar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is is done with the post-build command in EW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712800" y="3078000"/>
            <a:ext cx="522756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9" name="Title 1"/>
          <p:cNvSpPr/>
          <p:nvPr/>
        </p:nvSpPr>
        <p:spPr>
          <a:xfrm>
            <a:off x="250920" y="285840"/>
            <a:ext cx="84978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Building MQX libr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298760" cy="468144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1"/>
          <p:cNvSpPr/>
          <p:nvPr/>
        </p:nvSpPr>
        <p:spPr>
          <a:xfrm>
            <a:off x="755640" y="1989000"/>
            <a:ext cx="1944720" cy="360360"/>
          </a:xfrm>
          <a:prstGeom prst="rect">
            <a:avLst/>
          </a:prstGeom>
          <a:solidFill>
            <a:srgbClr val="ffee74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755640" y="3213000"/>
            <a:ext cx="1944720" cy="360360"/>
          </a:xfrm>
          <a:prstGeom prst="rect">
            <a:avLst/>
          </a:prstGeom>
          <a:solidFill>
            <a:srgbClr val="dcdfe3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755640" y="3573360"/>
            <a:ext cx="1944720" cy="1727280"/>
          </a:xfrm>
          <a:prstGeom prst="rect">
            <a:avLst/>
          </a:prstGeom>
          <a:solidFill>
            <a:srgbClr val="f19e91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755640" y="5732640"/>
            <a:ext cx="1944720" cy="360360"/>
          </a:xfrm>
          <a:prstGeom prst="rect">
            <a:avLst/>
          </a:prstGeom>
          <a:solidFill>
            <a:srgbClr val="f19e91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2"/>
          <p:cNvSpPr/>
          <p:nvPr/>
        </p:nvSpPr>
        <p:spPr>
          <a:xfrm>
            <a:off x="4259880" y="3716280"/>
            <a:ext cx="4138560" cy="916920"/>
          </a:xfrm>
          <a:prstGeom prst="rect">
            <a:avLst/>
          </a:prstGeom>
          <a:solidFill>
            <a:srgbClr val="f19e91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we have the EWARM proj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ed and this is the location whe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fferent MQX modules will be bui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0"/>
          <p:cNvSpPr/>
          <p:nvPr/>
        </p:nvSpPr>
        <p:spPr>
          <a:xfrm>
            <a:off x="4238640" y="5168880"/>
            <a:ext cx="4181400" cy="916920"/>
          </a:xfrm>
          <a:prstGeom prst="rect">
            <a:avLst/>
          </a:prstGeom>
          <a:solidFill>
            <a:srgbClr val="dcdfe3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a module is built, then that libra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header files will be copied to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lib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1"/>
          <p:cNvSpPr/>
          <p:nvPr/>
        </p:nvSpPr>
        <p:spPr>
          <a:xfrm>
            <a:off x="4238640" y="1989000"/>
            <a:ext cx="4181400" cy="1191240"/>
          </a:xfrm>
          <a:prstGeom prst="rect">
            <a:avLst/>
          </a:prstGeom>
          <a:solidFill>
            <a:srgbClr val="f9e181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is where the EWARM MQ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rary Workspace is located togeth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different build ti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Down Arrow 3"/>
          <p:cNvSpPr/>
          <p:nvPr/>
        </p:nvSpPr>
        <p:spPr>
          <a:xfrm>
            <a:off x="8244000" y="2924280"/>
            <a:ext cx="431640" cy="10094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c9cbce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Down Arrow 13"/>
          <p:cNvSpPr/>
          <p:nvPr/>
        </p:nvSpPr>
        <p:spPr>
          <a:xfrm>
            <a:off x="8244000" y="4508640"/>
            <a:ext cx="431640" cy="10080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c9cbce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71" name="Title 1"/>
          <p:cNvSpPr/>
          <p:nvPr/>
        </p:nvSpPr>
        <p:spPr>
          <a:xfrm>
            <a:off x="642960" y="476280"/>
            <a:ext cx="585792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Batch bui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642960" y="1557360"/>
            <a:ext cx="7715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You can create any number of your own batch bui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3" descr=""/>
          <p:cNvPicPr/>
          <p:nvPr/>
        </p:nvPicPr>
        <p:blipFill>
          <a:blip r:embed="rId2"/>
          <a:stretch/>
        </p:blipFill>
        <p:spPr>
          <a:xfrm>
            <a:off x="250920" y="1979640"/>
            <a:ext cx="5592600" cy="4041720"/>
          </a:xfrm>
          <a:prstGeom prst="rect">
            <a:avLst/>
          </a:prstGeom>
          <a:ln w="0">
            <a:noFill/>
          </a:ln>
        </p:spPr>
      </p:pic>
      <p:sp>
        <p:nvSpPr>
          <p:cNvPr id="574" name="TextBox 1"/>
          <p:cNvSpPr/>
          <p:nvPr/>
        </p:nvSpPr>
        <p:spPr>
          <a:xfrm>
            <a:off x="6227640" y="2421000"/>
            <a:ext cx="252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men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Batch buil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onf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76" name="Title 1"/>
          <p:cNvSpPr/>
          <p:nvPr/>
        </p:nvSpPr>
        <p:spPr>
          <a:xfrm>
            <a:off x="642960" y="857160"/>
            <a:ext cx="5857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Hands-on sess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itle 1"/>
          <p:cNvSpPr/>
          <p:nvPr/>
        </p:nvSpPr>
        <p:spPr>
          <a:xfrm>
            <a:off x="642960" y="857160"/>
            <a:ext cx="642924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ffff"/>
                </a:solidFill>
                <a:latin typeface="Gill Sans MT"/>
              </a:rPr>
              <a:t>EWARM and MQ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0" descr="blå2.jpg"/>
          <p:cNvPicPr/>
          <p:nvPr/>
        </p:nvPicPr>
        <p:blipFill>
          <a:blip r:embed="rId1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Title 1"/>
          <p:cNvSpPr/>
          <p:nvPr/>
        </p:nvSpPr>
        <p:spPr>
          <a:xfrm>
            <a:off x="642960" y="2071800"/>
            <a:ext cx="5715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MQX and its different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The MQX library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EWARM Workspace for MQ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MQX build and project options in EW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5" name="Title 1"/>
          <p:cNvSpPr/>
          <p:nvPr/>
        </p:nvSpPr>
        <p:spPr>
          <a:xfrm>
            <a:off x="714240" y="285840"/>
            <a:ext cx="63579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About Freescale MQ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"/>
          <p:cNvSpPr/>
          <p:nvPr/>
        </p:nvSpPr>
        <p:spPr>
          <a:xfrm>
            <a:off x="468360" y="148428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escale MQX Real-Time Operating System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rovides real-time performance within a small, configurable footpr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X is a run-time library of functions that programs use to bec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-time multi-tasking appli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main features are i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able 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-orien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chitecture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e of 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X suppor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proc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lications and can be used with flexible embedded I/O products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mmuni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8" name="Title 1"/>
          <p:cNvSpPr/>
          <p:nvPr/>
        </p:nvSpPr>
        <p:spPr>
          <a:xfrm>
            <a:off x="642960" y="333360"/>
            <a:ext cx="63579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QX libr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642960" y="1773360"/>
            <a:ext cx="771516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Gill Sans MT"/>
              </a:rPr>
              <a:t>SMQX contains of, among other things, </a:t>
            </a:r>
            <a:br>
              <a:rPr sz="2800"/>
            </a:br>
            <a:r>
              <a:rPr b="0" lang="en-US" sz="2800" spc="-1" strike="noStrike">
                <a:solidFill>
                  <a:srgbClr val="808080"/>
                </a:solidFill>
                <a:latin typeface="Gill Sans MT"/>
              </a:rPr>
              <a:t>a set of libraries with their own A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BSP,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Board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Support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PSP,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Processor Support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RTCS,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CP/IP stack (Communication Sui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MFS,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bedded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HELL,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hell for RT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USB_DDK,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USB device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USB_HDK,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USB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1" name="Title 1"/>
          <p:cNvSpPr/>
          <p:nvPr/>
        </p:nvSpPr>
        <p:spPr>
          <a:xfrm>
            <a:off x="250920" y="285840"/>
            <a:ext cx="84978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QX installation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3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298760" cy="4681440"/>
          </a:xfrm>
          <a:prstGeom prst="rect">
            <a:avLst/>
          </a:prstGeom>
          <a:ln w="0">
            <a:noFill/>
          </a:ln>
        </p:spPr>
      </p:pic>
      <p:sp>
        <p:nvSpPr>
          <p:cNvPr id="533" name="TextBox 1"/>
          <p:cNvSpPr/>
          <p:nvPr/>
        </p:nvSpPr>
        <p:spPr>
          <a:xfrm>
            <a:off x="3231000" y="1989000"/>
            <a:ext cx="459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fs, mqx, rtcs, shell and us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folders contain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ource code for the different modul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xampl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jects to build the module and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ocumentation for the API’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ference manual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etting started guid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5" name="Title 1"/>
          <p:cNvSpPr/>
          <p:nvPr/>
        </p:nvSpPr>
        <p:spPr>
          <a:xfrm>
            <a:off x="250920" y="285840"/>
            <a:ext cx="84978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QX installation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298760" cy="4681440"/>
          </a:xfrm>
          <a:prstGeom prst="rect">
            <a:avLst/>
          </a:prstGeom>
          <a:ln w="0">
            <a:noFill/>
          </a:ln>
        </p:spPr>
      </p:pic>
      <p:sp>
        <p:nvSpPr>
          <p:cNvPr id="537" name="TextBox 1"/>
          <p:cNvSpPr/>
          <p:nvPr/>
        </p:nvSpPr>
        <p:spPr>
          <a:xfrm>
            <a:off x="3230640" y="1989000"/>
            <a:ext cx="5281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orkspace and configuration files to buil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your MQX libraries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Location where built libraries and head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files are copied to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Various tools that can be useful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for example tools to convert HTML 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to C arr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9" name="Title 1"/>
          <p:cNvSpPr/>
          <p:nvPr/>
        </p:nvSpPr>
        <p:spPr>
          <a:xfrm>
            <a:off x="642960" y="404640"/>
            <a:ext cx="58579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Library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395280" y="1722600"/>
            <a:ext cx="7715160" cy="44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”</a:t>
            </a:r>
            <a:r>
              <a:rPr b="1" lang="sv-SE" sz="2000" spc="-1" strike="noStrike">
                <a:solidFill>
                  <a:srgbClr val="808080"/>
                </a:solidFill>
                <a:latin typeface="Gill Sans MT"/>
              </a:rPr>
              <a:t>config\&lt;board&gt;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”</a:t>
            </a:r>
            <a:r>
              <a:rPr b="0" lang="en-US" sz="1800" spc="-1" strike="noStrike">
                <a:solidFill>
                  <a:srgbClr val="f7941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EWARM Workspace file (*.ew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user_config.h</a:t>
            </a:r>
            <a:br>
              <a:rPr sz="2000"/>
            </a:b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”</a:t>
            </a:r>
            <a:r>
              <a:rPr b="1" lang="sv-SE" sz="2000" spc="-1" strike="noStrike">
                <a:solidFill>
                  <a:srgbClr val="808080"/>
                </a:solidFill>
                <a:latin typeface="Gill Sans MT"/>
              </a:rPr>
              <a:t>lib\&lt;board&gt;.iar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Built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opied head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Libraries are built with or without debug informatio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ithout information: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Gill Sans MT"/>
              </a:rPr>
              <a:t>&lt;lib&gt;_&lt;board&gt;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ith debug information: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Gill Sans MT"/>
              </a:rPr>
              <a:t>&lt;lib&gt;_&lt;board&gt;_d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43" name="Title 1"/>
          <p:cNvSpPr/>
          <p:nvPr/>
        </p:nvSpPr>
        <p:spPr>
          <a:xfrm>
            <a:off x="642960" y="333360"/>
            <a:ext cx="63579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user_config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"/>
          <p:cNvSpPr/>
          <p:nvPr/>
        </p:nvSpPr>
        <p:spPr>
          <a:xfrm>
            <a:off x="636480" y="1803240"/>
            <a:ext cx="782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-time configuration of all key Freescale MQX RTOS components (PSP, BSP, RTCS, MFS, USB, ...) is accomplished by editing the user_config.h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user_config.h includes other *_config.h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only modify the channel used for stdio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fault UART is used, and we will change that to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bugger communication cha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46" name="Title 1"/>
          <p:cNvSpPr/>
          <p:nvPr/>
        </p:nvSpPr>
        <p:spPr>
          <a:xfrm>
            <a:off x="642960" y="333360"/>
            <a:ext cx="63579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user_config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"/>
          <p:cNvSpPr/>
          <p:nvPr/>
        </p:nvSpPr>
        <p:spPr>
          <a:xfrm>
            <a:off x="636480" y="1803240"/>
            <a:ext cx="7823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ing user_config.h requires that the  used MQ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ies are rebuil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MQX User Guide for fine tun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4 Configuring MQX at Compi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4.1 MQX Compile-Time Configur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4.2 Recommended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1:55:24Z</dcterms:created>
  <dc:creator>Marie Gylldorff</dc:creator>
  <dc:description/>
  <dc:language>en-US</dc:language>
  <cp:lastModifiedBy>Mats Pettersson</cp:lastModifiedBy>
  <dcterms:modified xsi:type="dcterms:W3CDTF">2012-10-28T18:05:42Z</dcterms:modified>
  <cp:revision>224</cp:revision>
  <dc:subject/>
  <dc:title>Slide 1</dc:title>
</cp:coreProperties>
</file>