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E9A-E6FA-4C7F-9F0B-4A0F484DB42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30BA-3387-49BC-A523-69B9F93D30D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8076-8709-4EB5-AD6C-F4C1D93EF6E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tshållare för bildnumm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3C7-BFB2-46FB-AA56-B263DFCBED6E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0B4-1734-480E-A88A-20AD0057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536-2B33-47D5-9972-41B05933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DCF-7F24-4814-BBE5-E69589C8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8A7-43BB-4B84-AE7F-A2A1892C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33B-BAEA-4E61-B318-94EE4117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3DA-EF74-4742-B675-CF098487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FFE-5F99-4C12-BF0C-A89C24F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EA2-FBA7-4F06-B03D-CB6F2E44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94B-2144-4BD0-A5C9-699A70E4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E9E-F159-4259-82ED-A635603D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E97-B482-4594-8C1F-B8A2CA3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C61-1D2E-4DBA-B8E1-C8AFAA5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F61-79CF-49BB-9AEE-B479BDFE9DA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71628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Cortex-M4 Kinetis</a:t>
            </a:r>
            <a:br>
              <a:rPr sz="2800"/>
            </a:b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Project Development</a:t>
            </a:r>
            <a:endParaRPr b="0" lang="en-US" sz="28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.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1" name="Title 1"/>
          <p:cNvSpPr/>
          <p:nvPr/>
        </p:nvSpPr>
        <p:spPr>
          <a:xfrm>
            <a:off x="324000" y="345960"/>
            <a:ext cx="6840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9900"/>
                </a:solidFill>
                <a:latin typeface="Gill Sans MT"/>
              </a:rPr>
              <a:t>Workspace an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50920" y="2133720"/>
            <a:ext cx="771516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e top level we work in is th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ach Workspace can contain zero or more 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have one or mor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 Workspace can co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Projects of the same or different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xecutable and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ets its own uniqu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pecifies what groups/files to include in the bui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2352600" y="1382760"/>
            <a:ext cx="4981680" cy="4851360"/>
          </a:xfrm>
          <a:prstGeom prst="rect">
            <a:avLst/>
          </a:prstGeom>
          <a:ln w="0">
            <a:noFill/>
          </a:ln>
        </p:spPr>
      </p:pic>
      <p:sp>
        <p:nvSpPr>
          <p:cNvPr id="556" name="Title 1"/>
          <p:cNvSpPr/>
          <p:nvPr/>
        </p:nvSpPr>
        <p:spPr>
          <a:xfrm>
            <a:off x="2352600" y="303120"/>
            <a:ext cx="49816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684360" y="2349360"/>
            <a:ext cx="48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Intuitive project management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and o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Widely used and popul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build.exe” and projec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MAKE fi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Debug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84360" y="2349360"/>
            <a:ext cx="48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Well integrated with many emulator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Only for EWARM toda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CspyBat.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xcellent for automated test run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on HW as well a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9"/>
          <p:cNvSpPr/>
          <p:nvPr/>
        </p:nvSpPr>
        <p:spPr>
          <a:xfrm>
            <a:off x="179280" y="2714760"/>
            <a:ext cx="561672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Start EW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Load the TSI example project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Change project options to use the P&amp;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uild the “RAM_128KB”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ownload and debug you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Run and try the four touch sensors on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l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9"/>
          <p:cNvSpPr/>
          <p:nvPr/>
        </p:nvSpPr>
        <p:spPr>
          <a:xfrm>
            <a:off x="179280" y="2714760"/>
            <a:ext cx="56167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ve a closer look 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debugger ‘View’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Arranging Windows an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ditor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ebug Log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xi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9"/>
          <p:cNvSpPr/>
          <p:nvPr/>
        </p:nvSpPr>
        <p:spPr>
          <a:xfrm>
            <a:off x="179280" y="2714760"/>
            <a:ext cx="56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ifferent variants of </a:t>
            </a:r>
            <a:r>
              <a:rPr b="1" lang="en-US" sz="2000" spc="-1" strike="noStrike">
                <a:solidFill>
                  <a:srgbClr val="595d63"/>
                </a:solidFill>
                <a:latin typeface="Gill Sans MT"/>
              </a:rPr>
              <a:t>prin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y default the Kinetis examples are setup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serial port for print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f you like to use the built in Terminal IO Window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n EWARM, then you just need to remove/exclude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printf.c from you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82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Prepare for the train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Freescale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Prep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250920" y="148428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6.40 or newer of Embedded Workbench for ARM (EWAR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ditions, except the 32K kickstart limited edition, will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X v3.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and Ethernet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scale Tower kit with the serial module and K60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576360" y="3884760"/>
            <a:ext cx="799128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WARM and/or MQX is not installed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tart by installing the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find them both under “Products” on the U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297320" y="1484280"/>
            <a:ext cx="4749840" cy="474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0" name="Title 1"/>
          <p:cNvSpPr/>
          <p:nvPr/>
        </p:nvSpPr>
        <p:spPr>
          <a:xfrm>
            <a:off x="642960" y="303120"/>
            <a:ext cx="7674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69880" y="1916280"/>
            <a:ext cx="78897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orld-leading provider of software development tools for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Founded in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150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Workbenches support more than 26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From 8- to 32-bi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asy migration from one targe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argest customer base of development tools in the MC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10 000+ customers with active support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92 % recurring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65 % of customers use more than one EW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Embedded Workbench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pic>
        <p:nvPicPr>
          <p:cNvPr id="533" name="Group 117" descr=""/>
          <p:cNvPicPr/>
          <p:nvPr/>
        </p:nvPicPr>
        <p:blipFill>
          <a:blip r:embed="rId1"/>
          <a:stretch/>
        </p:blipFill>
        <p:spPr>
          <a:xfrm>
            <a:off x="201600" y="2157480"/>
            <a:ext cx="87710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ARM Core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18920" y="2057400"/>
            <a:ext cx="22539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1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9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8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7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R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3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1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+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36" name="Content Placeholder 1"/>
          <p:cNvSpPr/>
          <p:nvPr/>
        </p:nvSpPr>
        <p:spPr>
          <a:xfrm>
            <a:off x="2935440" y="2057400"/>
            <a:ext cx="22510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ecur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el X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tent Placeholder 1"/>
          <p:cNvSpPr/>
          <p:nvPr/>
        </p:nvSpPr>
        <p:spPr>
          <a:xfrm>
            <a:off x="4952880" y="2057400"/>
            <a:ext cx="35038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upport for ARM,  Thumb and Thumb2 processor m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for ARM DSP and SIM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rinsic NE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Generates code for ARM VFP series of floating-point co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High-performance C/C++ compil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Optimizing C/C++ compil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Language standard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89 and C99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++ 2003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Embedded C++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ARM EABI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IEEE-754 floating point representation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Customizable C/C++ librarie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Gill Sans MT"/>
              </a:rPr>
              <a:t>Pre-built and in source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Thread safe libraries for multitasking application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 DSP Library for Cortex-M3/M4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Automatic selection of smallest printf/scanf formatt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Comprehensive IAR C-SPY Debugg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42960" y="2500200"/>
            <a:ext cx="354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Integrated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Fully integrated debugger for source and disassembly debugging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Simulator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Built-in instruction simulator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Hardware debugging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Extensive hardware target system support including JTAG, SWD and ETM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RTOS awareness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Kernel awareness plugins for debugging systems using RTO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Macro system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C like macro system extends debugger capabilitie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</p:txBody>
      </p:sp>
      <p:pic>
        <p:nvPicPr>
          <p:cNvPr id="543" name="Picture 2" descr="O:\My Documents\Marketing\marketing material\Screen shots\C-SPY.tif"/>
          <p:cNvPicPr/>
          <p:nvPr/>
        </p:nvPicPr>
        <p:blipFill>
          <a:blip r:embed="rId1"/>
          <a:stretch/>
        </p:blipFill>
        <p:spPr>
          <a:xfrm>
            <a:off x="4229280" y="2590920"/>
            <a:ext cx="4624200" cy="2795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Hardware debug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2135160" y="2819520"/>
            <a:ext cx="5396040" cy="2447640"/>
            <a:chOff x="2135160" y="2819520"/>
            <a:chExt cx="5396040" cy="2447640"/>
          </a:xfrm>
        </p:grpSpPr>
        <p:pic>
          <p:nvPicPr>
            <p:cNvPr id="546" name="Picture 2" descr="http://ftp.iar.se/WWWfiles/Corporate_design_guide/Kit_images/Web/J-Trace/IAR_JTRACE_CM3.jpg"/>
            <p:cNvPicPr/>
            <p:nvPr/>
          </p:nvPicPr>
          <p:blipFill>
            <a:blip r:embed="rId1"/>
            <a:srcRect l="6777" t="11567" r="2407" b="26843"/>
            <a:stretch/>
          </p:blipFill>
          <p:spPr>
            <a:xfrm>
              <a:off x="2135160" y="2819520"/>
              <a:ext cx="539604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4"/>
            <p:cNvSpPr/>
            <p:nvPr/>
          </p:nvSpPr>
          <p:spPr>
            <a:xfrm>
              <a:off x="2135160" y="2819520"/>
              <a:ext cx="5396040" cy="2447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TM Trace suppor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Full instruction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Complex start and stop trigger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Trace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JTAG/SW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WO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Link Ultra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hird party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mages are exportable to third party debugger systems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Direct flash erase and downloa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vailable hardware drivers: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T I-jet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RDI (Remote Debug Interface)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Macgraigor JTAG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GDB serve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JTAG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V2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I Stellaris FTDI JTAG interf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XDS100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Angel debug 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P&amp;E micro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ROM-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12:59Z</dcterms:modified>
  <cp:revision>235</cp:revision>
  <dc:subject/>
  <dc:title>Slide 1</dc:title>
</cp:coreProperties>
</file>