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C48-AD90-4313-9CFB-F0E341E1276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18D-6B2C-439D-9110-D0C93B10CE8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AEA-9687-401F-97BD-EC03ABB3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BE6-9431-4F04-A6A8-813C245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0DE-FC23-4299-9475-CFFF8CD6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D5F-5AB3-42B6-88FD-97870A7C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002-1296-43AC-81F2-FA5B9414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B16-6A67-420B-A775-181DC2F4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A0C-2282-4F47-8F20-35642BF8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65C-6888-449B-8295-72A335DC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DD2-072B-44B3-9CB9-ED7BF1E2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059-8013-4CAA-A4AE-FD72129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03E-E8CB-45F5-8525-8E3D385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AA4-97F4-469A-A85B-BD2BB1E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A0D-BD3A-4311-8349-4A5B2703531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4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project manag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539640" y="1844640"/>
            <a:ext cx="77155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a second application project to our Workspac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new Batch Builds to handle the different application projects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ing pre/post-build to automate the buil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Get our web pages re-comp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xtending the Embedded Workbench tool chain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header include files in EWAR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549360"/>
            <a:ext cx="7889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Batch Builds to our Work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55152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3485160" y="2949480"/>
            <a:ext cx="185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1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2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557748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3476520" y="2949480"/>
            <a:ext cx="18687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5591160" y="2949480"/>
            <a:ext cx="261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591160" y="2924280"/>
            <a:ext cx="26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5577480" y="2924280"/>
            <a:ext cx="279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3495600" y="3309840"/>
            <a:ext cx="186840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3492360" y="3597120"/>
            <a:ext cx="1866960" cy="33660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3492360" y="3957480"/>
            <a:ext cx="18669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16680" y="1773360"/>
            <a:ext cx="84074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– Configuration       Batch Build                Project-Configuration buil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ight Arrow 12"/>
          <p:cNvSpPr/>
          <p:nvPr/>
        </p:nvSpPr>
        <p:spPr>
          <a:xfrm>
            <a:off x="4819680" y="1773360"/>
            <a:ext cx="544320" cy="36828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bfbfbf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539640" y="1700280"/>
            <a:ext cx="77155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add both pre- and post-build actions to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MQX libraries we already use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ost-build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to copy 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files to a specific lo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our web server application we will create a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re-build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action that will convert web pages to C arrays that we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include when building our projec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For this we will make a modified version of the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mktfs.bat bat file that comes with MQ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mktfs.bat calles the MQX tool mktfs.exe to convert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web pages into C arrys in the file tfs_data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pre-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539640" y="1484280"/>
            <a:ext cx="4537080" cy="156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REM  *** mktfsEW.bat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cd %1\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..\..\..\tools\mktfs.exe web_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558360" y="3395520"/>
            <a:ext cx="4885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$PROJ_DIR$\..\mktfsEW.bat" "$PROJ_DIR$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2"/>
          <p:cNvSpPr/>
          <p:nvPr/>
        </p:nvSpPr>
        <p:spPr>
          <a:xfrm>
            <a:off x="6227640" y="1628640"/>
            <a:ext cx="2521080" cy="1295640"/>
          </a:xfrm>
          <a:prstGeom prst="wedgeRoundRectCallout">
            <a:avLst>
              <a:gd name="adj1" fmla="val -126972"/>
              <a:gd name="adj2" fmla="val -17523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our bat file that we call from the IDE’s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6"/>
          <p:cNvSpPr/>
          <p:nvPr/>
        </p:nvSpPr>
        <p:spPr>
          <a:xfrm>
            <a:off x="6227640" y="3068640"/>
            <a:ext cx="2521080" cy="865080"/>
          </a:xfrm>
          <a:prstGeom prst="wedgeRoundRectCallout">
            <a:avLst>
              <a:gd name="adj1" fmla="val -86898"/>
              <a:gd name="adj2" fmla="val 4587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command line we use in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365760" y="4221000"/>
            <a:ext cx="8363160" cy="201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PROJ_DIR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 EWARM IDE variable that expands to the location of the current pro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TOOLKIT_DIR$ - Embedded Workbench installation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XE_DIR$ - the directory for executabl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available!. See the EWARM IDE guide, section “Argument variab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tending the tool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39640" y="1700280"/>
            <a:ext cx="771552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AR Embedded Workbench provides a feature—Custom Build—which lets you extend the standard toolch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feature is used for executing external tools and you can make these tools execute each time specific files in your project hav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option is, if used, specified for each project and is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setup in: 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Project options -&gt; Custom Build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could use this tool to create C arrays from HTML fi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did, then we could just add a HTML file to our pro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e and this custom build tool would generate the C arr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the C files are compi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549360"/>
            <a:ext cx="76122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the Workspace project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539640" y="1700280"/>
            <a:ext cx="7715520" cy="7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Header files added to the project tree are not included in the bui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39640" y="2666880"/>
            <a:ext cx="7715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compiler and assembler will only search the standar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clude directories, plus the additional directories specifi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 the their “Preprocessor”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642960" y="3789360"/>
            <a:ext cx="4856040" cy="2160720"/>
          </a:xfrm>
          <a:prstGeom prst="rect">
            <a:avLst/>
          </a:prstGeom>
          <a:ln w="0">
            <a:noFill/>
          </a:ln>
        </p:spPr>
      </p:pic>
      <p:sp>
        <p:nvSpPr>
          <p:cNvPr id="556" name="Rounded Rectangular Callout 1"/>
          <p:cNvSpPr/>
          <p:nvPr/>
        </p:nvSpPr>
        <p:spPr>
          <a:xfrm>
            <a:off x="4397400" y="5157720"/>
            <a:ext cx="4443480" cy="792360"/>
          </a:xfrm>
          <a:prstGeom prst="wedgeRoundRectCallout">
            <a:avLst>
              <a:gd name="adj1" fmla="val -75763"/>
              <a:gd name="adj2" fmla="val -22925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m.h might, or might not, be used during the bu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ular Callout 7"/>
          <p:cNvSpPr/>
          <p:nvPr/>
        </p:nvSpPr>
        <p:spPr>
          <a:xfrm>
            <a:off x="5292720" y="4221000"/>
            <a:ext cx="3548160" cy="792360"/>
          </a:xfrm>
          <a:prstGeom prst="wedgeRoundRectCallout">
            <a:avLst>
              <a:gd name="adj1" fmla="val -139675"/>
              <a:gd name="adj2" fmla="val 51162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the cm.h used, expand cm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539640" y="404640"/>
            <a:ext cx="820908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ff9900"/>
                </a:solidFill>
                <a:latin typeface="Gill Sans MT"/>
              </a:rPr>
              <a:t>About MQX projects and user_config.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0" y="1700280"/>
            <a:ext cx="39607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e careful if you add header file to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In most cases this is not a good idea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16360" cy="21556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566640" y="4149720"/>
            <a:ext cx="79660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For MQX libraries, adding user_config.h is a great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because user_config.h is being copied to new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locations and it is easy to modify the wrong user_config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4:12Z</dcterms:modified>
  <cp:revision>214</cp:revision>
  <dc:subject/>
  <dc:title>Slide 1</dc:title>
</cp:coreProperties>
</file>