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move the slide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8AF9-55CD-4CC4-A54D-84DD20CE140B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072C-B1E3-41EB-A297-10ED3A4476C3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752C-60F4-4B8B-887E-853F46F3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2C81-8ACA-4779-9190-850D4E77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CA12-B82E-44D3-86DA-36C9F62B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58D8-F041-4291-AC25-295C10B3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67FF-870F-4A4E-8BB8-067C3F31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2AF2-373E-4AF0-88F9-B802695F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F05D-2979-4B82-8321-BDFC22BE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6DCE-2CDD-4E54-BE18-7A0BCCCD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8B84-F3E1-4880-B982-811FFE3F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BE82-3473-47D0-864F-7F15758F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DDAF-936E-452E-B68F-F596952C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7235-F0B7-452F-ABE2-DF828855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E624-CEEA-4AB8-9586-36FEC78DEB32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Start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41d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blå2.jpg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41d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blå2.jpg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9" descr="Start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42600" y="400032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ffff"/>
                </a:solidFill>
                <a:latin typeface="Gill Sans MT"/>
              </a:rPr>
              <a:t>Session 3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20" name="Title 1"/>
          <p:cNvSpPr/>
          <p:nvPr/>
        </p:nvSpPr>
        <p:spPr>
          <a:xfrm>
            <a:off x="642960" y="5000760"/>
            <a:ext cx="57150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Gill Sans MT"/>
              </a:rPr>
              <a:t>Mats Pettersson, Sr FAE IAR Systems 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itle 1"/>
          <p:cNvSpPr/>
          <p:nvPr/>
        </p:nvSpPr>
        <p:spPr>
          <a:xfrm>
            <a:off x="642960" y="857160"/>
            <a:ext cx="642924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ffff"/>
                </a:solidFill>
                <a:latin typeface="Gill Sans MT"/>
              </a:rPr>
              <a:t>Creating our own MQX based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0" descr="blå2.jpg"/>
          <p:cNvPicPr/>
          <p:nvPr/>
        </p:nvPicPr>
        <p:blipFill>
          <a:blip r:embed="rId1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Title 1"/>
          <p:cNvSpPr/>
          <p:nvPr/>
        </p:nvSpPr>
        <p:spPr>
          <a:xfrm>
            <a:off x="642960" y="2585880"/>
            <a:ext cx="57150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Create a new EWARM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Add MQX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Add applicatio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Setting up project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Build and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25" name="Title 1"/>
          <p:cNvSpPr/>
          <p:nvPr/>
        </p:nvSpPr>
        <p:spPr>
          <a:xfrm>
            <a:off x="642960" y="857160"/>
            <a:ext cx="6357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Some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642960" y="2286000"/>
            <a:ext cx="7715160" cy="45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When creating an MQX based project there are many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things we need to consi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We will not worry about most of them,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but just the few mentioned below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Use a EWARM Workspace with only the application,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   or the application and MQX library?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Using batch builds or not?</a:t>
            </a:r>
            <a:br>
              <a:rPr sz="2400"/>
            </a:b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What libraries/modules of MQX will I be u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28" name="Title 1"/>
          <p:cNvSpPr/>
          <p:nvPr/>
        </p:nvSpPr>
        <p:spPr>
          <a:xfrm>
            <a:off x="642960" y="857160"/>
            <a:ext cx="6357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What we will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642960" y="2286000"/>
            <a:ext cx="7715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941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reate a Workspace with just our own MQX based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Add libraries and create our MQX applicatio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t up our project options</a:t>
            </a: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Build and debug our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Add the BSP and PSP library projects to our Work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reate one Debug and one Release Batch build for ou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31" name="Title 1"/>
          <p:cNvSpPr/>
          <p:nvPr/>
        </p:nvSpPr>
        <p:spPr>
          <a:xfrm>
            <a:off x="642960" y="154080"/>
            <a:ext cx="635796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Our MQX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642960" y="1582560"/>
            <a:ext cx="7715160" cy="43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Our example application will be very similar to the Hello2 example application included in MQ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 will however create our own project from scratch in order to see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all the steps needed to create your own MQX based application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At a minimum we will need to define one task and the the array “MQX_template_list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Our application will have two task. One that start automatically, and the other is created and started by the first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34" name="Title 1"/>
          <p:cNvSpPr/>
          <p:nvPr/>
        </p:nvSpPr>
        <p:spPr>
          <a:xfrm>
            <a:off x="642960" y="476280"/>
            <a:ext cx="585792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Lin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68360" y="1484280"/>
            <a:ext cx="7715160" cy="41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o far we have only built libraries for MQX and 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have not had to consider linking our appl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To make sure that all the parts of MQX and our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application is located correctly in memory we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use the linker configuration file (*.icf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asiest is to use one of the premade ICF files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or EWARM and MQX located at;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 “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mqx\source\bsp\twrk60n512\iar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or example “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intflash.icf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38" name="Title 1"/>
          <p:cNvSpPr/>
          <p:nvPr/>
        </p:nvSpPr>
        <p:spPr>
          <a:xfrm>
            <a:off x="642960" y="476280"/>
            <a:ext cx="5857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MQX memory lay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2124000" y="4060800"/>
            <a:ext cx="3456000" cy="1820880"/>
          </a:xfrm>
          <a:prstGeom prst="rect">
            <a:avLst/>
          </a:prstGeom>
          <a:solidFill>
            <a:srgbClr val="ffe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X_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MPROT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intv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2124000" y="1387440"/>
            <a:ext cx="3456000" cy="2435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_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_DEFAULT_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vector_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324000" y="4060800"/>
            <a:ext cx="1726920" cy="1820880"/>
          </a:xfrm>
          <a:prstGeom prst="rect">
            <a:avLst/>
          </a:prstGeom>
          <a:solidFill>
            <a:srgbClr val="ffe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0007 FF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0000 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324000" y="1387440"/>
            <a:ext cx="1726920" cy="2191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2000 FFF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1FFF 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ounded Rectangular Callout 1"/>
          <p:cNvSpPr/>
          <p:nvPr/>
        </p:nvSpPr>
        <p:spPr>
          <a:xfrm>
            <a:off x="6084720" y="3213000"/>
            <a:ext cx="2664000" cy="432000"/>
          </a:xfrm>
          <a:prstGeom prst="wedgeRoundRectCallout">
            <a:avLst>
              <a:gd name="adj1" fmla="val -160949"/>
              <a:gd name="adj2" fmla="val -6995"/>
              <a:gd name="adj3" fmla="val 16667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5d5"/>
                </a:solidFill>
                <a:latin typeface="Calibri"/>
              </a:rPr>
              <a:t>First in 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ounded Rectangular Callout 9"/>
          <p:cNvSpPr/>
          <p:nvPr/>
        </p:nvSpPr>
        <p:spPr>
          <a:xfrm>
            <a:off x="6084720" y="1341360"/>
            <a:ext cx="2664000" cy="432000"/>
          </a:xfrm>
          <a:prstGeom prst="wedgeRoundRectCallout">
            <a:avLst>
              <a:gd name="adj1" fmla="val -146736"/>
              <a:gd name="adj2" fmla="val -6995"/>
              <a:gd name="adj3" fmla="val 16667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5d5"/>
                </a:solidFill>
                <a:latin typeface="Calibri"/>
              </a:rPr>
              <a:t>Last in 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ounded Rectangular Callout 10"/>
          <p:cNvSpPr/>
          <p:nvPr/>
        </p:nvSpPr>
        <p:spPr>
          <a:xfrm>
            <a:off x="6237360" y="5445000"/>
            <a:ext cx="2511360" cy="432000"/>
          </a:xfrm>
          <a:prstGeom prst="wedgeRoundRectCallout">
            <a:avLst>
              <a:gd name="adj1" fmla="val -176162"/>
              <a:gd name="adj2" fmla="val 11958"/>
              <a:gd name="adj3" fmla="val 16667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5d5"/>
                </a:solidFill>
                <a:latin typeface="Calibri"/>
              </a:rPr>
              <a:t>Always at address 0x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ounded Rectangular Callout 11"/>
          <p:cNvSpPr/>
          <p:nvPr/>
        </p:nvSpPr>
        <p:spPr>
          <a:xfrm>
            <a:off x="6237360" y="4060800"/>
            <a:ext cx="2511360" cy="433440"/>
          </a:xfrm>
          <a:prstGeom prst="wedgeRoundRectCallout">
            <a:avLst>
              <a:gd name="adj1" fmla="val -134328"/>
              <a:gd name="adj2" fmla="val -19629"/>
              <a:gd name="adj3" fmla="val 16667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5d5"/>
                </a:solidFill>
                <a:latin typeface="Calibri"/>
              </a:rPr>
              <a:t>Last in ROM/Fl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48" name="Title 1"/>
          <p:cNvSpPr/>
          <p:nvPr/>
        </p:nvSpPr>
        <p:spPr>
          <a:xfrm>
            <a:off x="642960" y="857160"/>
            <a:ext cx="58579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Hands-on sess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11:55:24Z</dcterms:created>
  <dc:creator>Marie Gylldorff</dc:creator>
  <dc:description/>
  <dc:language>en-US</dc:language>
  <cp:lastModifiedBy>Mats Pettersson</cp:lastModifiedBy>
  <dcterms:modified xsi:type="dcterms:W3CDTF">2012-10-28T18:05:05Z</dcterms:modified>
  <cp:revision>211</cp:revision>
  <dc:subject/>
  <dc:title>Slide 1</dc:title>
</cp:coreProperties>
</file>